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412-0470-4D31-AB03-A2865F1C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F98-E131-4E61-9EB7-F1058970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A6D-3F1C-4C90-BCA5-3F890839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DD7-7A11-4983-8FF0-C53CC287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C9900-0268-42A9-B147-BCB66CD3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90CB6-AF2B-4000-931B-C55F2D9E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5F9DF-948D-40FC-8E13-4199933E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ECFED-CC03-4BD0-800F-B2FB870C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9092E-D351-41BB-93A5-80F41C34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471BF-68D5-4779-ADB7-5383DAD8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4AC37-3B95-4DBB-8429-C87C929D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58E-7F5B-4294-A482-D9F37D67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AFA0F-DCFE-41CF-94AF-A17E044D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345BC-6F62-459A-A5C2-C779436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E00E3-F630-42DA-B36F-75416316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CD189-6843-4DBB-94A6-11FA0324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17A25-2CC1-46B0-B273-3098CC47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0A445-CEA0-4C87-B480-3F8773D0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191A6-6397-4151-BD3F-5D46124C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57BC0-3181-42DE-A911-9DB26E7C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D5593-0194-45C5-BA2F-8761F3E0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BE93F-DC85-486A-8970-25EABEC6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F98-C737-404A-9456-E3490316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2E416-7B62-4D0D-9E87-0EAAE6FD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EE75C-4CDB-4A5A-9864-04D33BD7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B9849-C5D2-491F-81EB-300EF08E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7D2B4-7189-4BCD-A70A-0C9DA0D0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26B8A-223B-4A8B-B5DD-96A101E3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55BFD-FD18-4266-AC2B-44FFA458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D1E1F-4A87-4C90-B462-6C7DFD20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6A11D-1F0B-4608-B0AF-E5143A44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D11012-3464-4EFE-8D5B-E93DCD05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E1053-E935-41ED-BB88-A82A38FD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BB1-09CD-43C5-9960-DBA58F1F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15413-282C-4847-A4A7-FB4006FF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09F02-DB0E-41E2-B869-C79ADA56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F2DE7-1044-4CFE-8417-204ED151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CE1DF-891C-4999-B854-891F64BA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D2A66-5958-4A5B-A0BE-0D00B67C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CFE74-F10C-47D0-8D20-C592C7B6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A255E6-AA7F-4636-BE5A-AA61BC76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3AC7D-2F99-4454-B818-796ADA68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D954B-045E-42C6-AD98-3E248643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24A4E-97E6-4F9F-8C79-0736598C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6DE-6B01-4E2E-A15F-48B3050F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D08F0-56D0-439C-B285-5B637486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E7CA2-79E8-4D2B-B273-77609052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496E1-2B42-4C80-B133-DDB5FA4E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8249-C98D-4A55-BF06-D484E60A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8266D-869D-4307-9CF6-B18A4B60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DB52D-C47C-46D7-B93B-8E18D675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3A292-2676-4BF3-978E-86B0C07C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B3D8C-E7DA-43BB-9DEE-9BA941C1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5AD71-0B31-42CD-93C9-762BBE8C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43DA7-0F2F-418D-B5F6-0949E227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280-52CD-44D1-B33C-36F8B673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2A19-6A1A-4F43-B434-6C741886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053-FCA3-4559-B8EA-00E2CB01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386-D85F-4598-B4B8-AE6F70D2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A0C-54A0-46EC-9C82-D1125C68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1336680"/>
            <a:ext cx="9144000" cy="552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A33A-629A-4192-BD60-97B522150F35}" type="datetime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</a:rPr>
              <a:t>CROITORU I. MIHAE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5ACE-9144-40E7-93A3-288893399CAD}" type="slidenum"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9"/>
          <p:cNvSpPr/>
          <p:nvPr/>
        </p:nvSpPr>
        <p:spPr>
          <a:xfrm>
            <a:off x="0" y="1332000"/>
            <a:ext cx="9144000" cy="1440"/>
          </a:xfrm>
          <a:prstGeom prst="line">
            <a:avLst/>
          </a:prstGeom>
          <a:ln w="12600">
            <a:solidFill>
              <a:srgbClr val="bba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pic>
        <p:nvPicPr>
          <p:cNvPr id="7" name="Picture 2" descr="C:\Program Files (x86)\Microsoft Office\MEDIA\CAGCAT10\j0157763.wmf"/>
          <p:cNvPicPr/>
          <p:nvPr/>
        </p:nvPicPr>
        <p:blipFill>
          <a:blip r:embed="rId3"/>
          <a:stretch/>
        </p:blipFill>
        <p:spPr>
          <a:xfrm>
            <a:off x="6804000" y="4097160"/>
            <a:ext cx="1676520" cy="16923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" descr="C:\Program Files (x86)\Microsoft Office\MEDIA\CAGCAT10\j0195384.wmf"/>
          <p:cNvPicPr/>
          <p:nvPr/>
        </p:nvPicPr>
        <p:blipFill>
          <a:blip r:embed="rId4"/>
          <a:stretch/>
        </p:blipFill>
        <p:spPr>
          <a:xfrm rot="19500000">
            <a:off x="826920" y="3000240"/>
            <a:ext cx="1441440" cy="147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0"/>
            <a:ext cx="9144000" cy="293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Straight Connector 11"/>
          <p:cNvSpPr/>
          <p:nvPr/>
        </p:nvSpPr>
        <p:spPr>
          <a:xfrm>
            <a:off x="0" y="2925720"/>
            <a:ext cx="9144000" cy="1800"/>
          </a:xfrm>
          <a:prstGeom prst="line">
            <a:avLst/>
          </a:prstGeom>
          <a:ln w="12600">
            <a:solidFill>
              <a:srgbClr val="6f6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514600" y="2362320"/>
            <a:ext cx="4114800" cy="112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9938-9B17-48F8-91E3-3134E3C637F8}" type="datetime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E537-3AA7-4328-9C72-CF2BA3F86F33}" type="slidenum"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</a:rPr>
              <a:t>CROITORU I. MIHAE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0" y="3922560"/>
            <a:ext cx="9144000" cy="293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Straight Connector 11"/>
          <p:cNvSpPr/>
          <p:nvPr/>
        </p:nvSpPr>
        <p:spPr>
          <a:xfrm>
            <a:off x="0" y="3921120"/>
            <a:ext cx="9144000" cy="1440"/>
          </a:xfrm>
          <a:prstGeom prst="line">
            <a:avLst/>
          </a:prstGeom>
          <a:ln w="12600">
            <a:solidFill>
              <a:srgbClr val="bba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2514600" y="3368520"/>
            <a:ext cx="4114800" cy="112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59E2-6D7D-40A2-B91C-0EB15C46CF73}" type="datetime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C998-D4F3-4A92-B699-C16E7621530F}" type="slidenum"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9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</a:rPr>
              <a:t>CROITORU I. MIHAE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444B-9024-40B0-8320-57B5C8C1512F}" type="datetime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9692-2820-461A-85E9-3E1ED74CBCEA}" type="slidenum"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</a:rPr>
              <a:t>CROITORU I. MIHAE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traight Connector 10"/>
          <p:cNvSpPr/>
          <p:nvPr/>
        </p:nvSpPr>
        <p:spPr>
          <a:xfrm flipH="1">
            <a:off x="7694280" y="1440"/>
            <a:ext cx="3240" cy="6858000"/>
          </a:xfrm>
          <a:prstGeom prst="line">
            <a:avLst/>
          </a:prstGeom>
          <a:ln w="12600">
            <a:solidFill>
              <a:srgbClr val="bba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7696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944F-D3A2-4EB8-9FBF-42C6DB104854}" type="datetime"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ffffff"/>
                </a:solidFill>
                <a:latin typeface="Times New Roman"/>
              </a:rPr>
              <a:t>CROITORU I. MIHAE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D349-F94B-4DF6-BB09-EE4D822FEC44}" type="slidenum"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565360" y="3044880"/>
            <a:ext cx="40132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600" spc="-1" strike="noStrike">
              <a:solidFill>
                <a:srgbClr val="404040"/>
              </a:solidFill>
              <a:latin typeface="Garamond"/>
            </a:endParaRPr>
          </a:p>
        </p:txBody>
      </p:sp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2567160" y="2395440"/>
            <a:ext cx="4009680" cy="781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20" name="Footer Placeholder 3"/>
          <p:cNvSpPr/>
          <p:nvPr/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ffffff"/>
                </a:solidFill>
                <a:latin typeface="Garamond"/>
              </a:rPr>
              <a:t>CROITORU I. MIHAELA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68360" y="1844640"/>
            <a:ext cx="82296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56000" y="4759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04040"/>
                </a:solidFill>
                <a:latin typeface="Garamond"/>
              </a:rPr>
              <a:t>MASTER SLIDE</a:t>
            </a:r>
            <a:br>
              <a:rPr sz="1800"/>
            </a:br>
            <a:r>
              <a:rPr b="1" lang="ro-RO" sz="1800" spc="-1" strike="noStrike">
                <a:solidFill>
                  <a:srgbClr val="404040"/>
                </a:solidFill>
                <a:latin typeface="Garamond"/>
              </a:rPr>
              <a:t>TITLU ȘI CONȚINU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ffffff"/>
                </a:solidFill>
                <a:latin typeface="Garamond"/>
              </a:rPr>
              <a:t>CROITORU I. MIHAELA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14600" y="936360"/>
            <a:ext cx="4114800" cy="7779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25" name="Footer Placeholder 2"/>
          <p:cNvSpPr/>
          <p:nvPr/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ffffff"/>
                </a:solidFill>
                <a:latin typeface="Garamond"/>
              </a:rPr>
              <a:t>CROITORU I. MIHAELA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2" descr=""/>
          <p:cNvPicPr/>
          <p:nvPr/>
        </p:nvPicPr>
        <p:blipFill>
          <a:blip r:embed="rId1"/>
          <a:stretch/>
        </p:blipFill>
        <p:spPr>
          <a:xfrm>
            <a:off x="2567160" y="2316240"/>
            <a:ext cx="4009680" cy="981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27" name="Footer Placeholder 3"/>
          <p:cNvSpPr/>
          <p:nvPr/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ffffff"/>
                </a:solidFill>
                <a:latin typeface="Garamond"/>
              </a:rPr>
              <a:t>CROITORU I. MIHAELA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2:15:38Z</dcterms:created>
  <dc:creator>Mihaela</dc:creator>
  <dc:description/>
  <dc:language>en-US</dc:language>
  <cp:lastModifiedBy>Mihaela</cp:lastModifiedBy>
  <dcterms:modified xsi:type="dcterms:W3CDTF">2012-12-20T15:35:51Z</dcterms:modified>
  <cp:revision>3</cp:revision>
  <dc:subject/>
  <dc:title>Master Slide-uri</dc:title>
</cp:coreProperties>
</file>